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D3E-DCFF-4B83-A41F-74B31CDE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F6F-740C-4992-9AE5-F3B98556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C40-64A8-4022-8C5C-0794C1AC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982-FB74-4B2B-A6D8-179C27AF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AD4-2201-4DB4-AD24-E2291AC3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35F-A1FC-4FCF-8EFE-C6984B38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CCC-3DA8-4207-94D3-221CD41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465-3DAE-4C5E-9CF3-3460449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3CD-2AD2-49DB-90D1-EF0BF1C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E1F-D4CE-46C2-B3E1-1D00504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57A-D649-44DB-929C-B041A13B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C5B-7111-40EB-AD59-6DA29AF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C93-BC42-4462-8261-3FFCA11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F8D-73E2-4975-B91D-1753BBE8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902-857C-41B2-AB53-D95C75ED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hy Huma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ueva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ñana para pasar todo el dia juntos por favor vamos todos nosotros. Amiga a está bie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é, yo esto bien. Ellos estan en la tien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4956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á amigas pues claro y yo estoy muy bien gracias por preguntar yo estoy en la casa acostad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é tal amiga y si yo voy con ustédes. yo estoy jugando con mi hermana y si yo estoy 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é quieren jugar? Tenemos qué ir rapido. Amiga a que ahora son. Y cuantos amigas estan yendo.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 las 11:30 y Esta bien. Cual quiere cosa. Somos trés personás  Amigas mi tengo que ir adíos. Pero ellos tiene que jugar.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¿Cómo están amigas y que están haciendo?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55Z</dcterms:modified>
  <cp:revision>119</cp:revision>
  <dc:subject/>
  <dc:title>Profile</dc:title>
</cp:coreProperties>
</file>